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media/chimes.wav" ContentType="audio/x-wav"/>
  <Override PartName="/ppt/media/gunshot.wav" ContentType="audio/x-wav"/>
  <Override PartName="/ppt/media/projctor.wav" ContentType="audio/x-wav"/>
  <Override PartName="/ppt/media/drumroll.wav" ContentType="audio/x-wav"/>
  <Override PartName="/ppt/media/clap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E43-CBA0-4710-9ED9-07271415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9A7-D77F-4CAA-9B15-44B5487F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D5A-06F3-43F1-8A16-BE156FB1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F51-931C-441E-B8F7-EE98EB04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79A7-ABFB-4367-B8CA-A95E3D33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3238-4168-43A8-A15A-EC71F2AC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AC98-EF61-46D9-9CCC-491D585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728F-3F6F-4E4E-AD86-A5BC90EE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A2C7-0D90-45F3-8390-D031FF5E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3CD0-3B32-401C-A2E1-D2EE408C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460B-1128-472C-A699-167ED2CE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9C3-9713-4846-9CE8-033E4E57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5857-D430-4684-95D9-C2E5F13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011F-579B-4076-B2F7-0749FCEB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9CBC-0D45-4639-B80E-890D0D87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E827-34F0-4892-BEC1-E9387161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494D-1F68-497B-8EDC-354CBE85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BEE-02D4-464E-9338-B99C825D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1C8-6701-4E8D-9DFD-54BE1163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19D-8561-4CB3-B6BC-BD8C0F68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ED2-DF97-4BD9-906E-9594E70D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83E-0171-4B59-A9F9-D12E83D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49E-C608-4BAB-A5C6-BD259937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0A3-673B-4021-9FD9-ED0B1A60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EA93-1CED-474B-92A3-A2D5D730AE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4BE7-21C4-4523-A7B2-B0B9E8E815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oetry Workshop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EF"/>
              </a:rPr>
              <a:t>Poetry is a way to put your feelings or expression into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Refrain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epetitive line found throughout the po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Is usually found in the same place in each stan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Similar to the chorus in a s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dLib BT"/>
              </a:rPr>
              <a:t>Since Hanna Moved Aw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90720" y="19810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1143000"/>
            <a:ext cx="4343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tires on my bike are fla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ky is grouchy gr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least it sure feels like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ocolate ice cream tastes like pru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ember’s come to st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y’ve taken back the Mays and Ju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952880" y="1143000"/>
            <a:ext cx="39625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owers smell like halibu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lvet feels like h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ery handsome dog’s a mu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hing’s fun to laugh abou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hing’s fun to pl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y call me, but I won’t come 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dith Vio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y one of these possible refrai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y way to schoo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I’ll stay in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at wa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sk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it have to be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aughed and giggled all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Poems can be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Free 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hy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Free Verse Poems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rhy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:\Program Files\Common Files\Microsoft Shared\Clipart\cagcat50\BD06662_.WMF"/>
          <p:cNvPicPr/>
          <p:nvPr/>
        </p:nvPicPr>
        <p:blipFill>
          <a:blip r:embed="rId5"/>
          <a:stretch/>
        </p:blipFill>
        <p:spPr>
          <a:xfrm>
            <a:off x="4648320" y="2352600"/>
            <a:ext cx="3809880" cy="3371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Rhyming Poems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hy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Has a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a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C:\Program Files\Common Files\Microsoft Shared\Clipart\cagcat50\BD06675_.WMF"/>
          <p:cNvPicPr/>
          <p:nvPr/>
        </p:nvPicPr>
        <p:blipFill>
          <a:blip r:embed="rId5"/>
          <a:stretch/>
        </p:blipFill>
        <p:spPr>
          <a:xfrm>
            <a:off x="4889520" y="1981080"/>
            <a:ext cx="3327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oetry Toolbox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hyth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Punc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Stanz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efr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6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Word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Choose the absolute best words for your poe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Use a thesaurus to replace dead wor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Think of your five senses; touch, taste, sight, hearing, and sm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Rhythm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Poems with rhythm usually contain rhyming words at the ends of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Specific syllables are st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The rhyming follows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hyming dictionaries are helpful to create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5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unctuation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Is used to show the reader how to read the po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not have any punct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commas, periods, question marks, and exclamation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Needs to be consist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Stanza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A divided section with a group of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A format chosen by the po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include a rhyming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9:02:27Z</dcterms:created>
  <dc:creator>David Huff</dc:creator>
  <dc:description/>
  <dc:language>en-US</dc:language>
  <cp:lastModifiedBy>Rachel</cp:lastModifiedBy>
  <dcterms:modified xsi:type="dcterms:W3CDTF">2013-06-14T17:32:28Z</dcterms:modified>
  <cp:revision>13</cp:revision>
  <dc:subject/>
  <dc:title>Poetry Workshop</dc:title>
</cp:coreProperties>
</file>